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D7B0-CF5D-44D8-8599-3AF279E86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Ev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91EE-4D2D-4F4B-B01A-D2BC08565D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250-F8F6-42CF-A35A-9ACB9410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043-1428-4440-8E1B-19A97321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3DC-ADF2-42F4-944E-0A538F59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30F-77CE-4F62-8048-8C7C266A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425E-15AA-4B73-BD48-AEE9155C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048C-466C-4BEC-9355-D8693825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DB43-F6BB-40EC-AC79-4DC4A093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1800-4BEC-4C47-956A-70DB951F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31B3-3E48-4688-AD81-F52AA080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FA6F-E885-44C8-941D-D97FC661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0CC5-837A-4CCF-99D5-033FB22D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F89-E33C-4469-87F6-A452AE92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8C0A-E547-4594-998F-AEC6CDD4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311C-D815-4CAD-B890-D0AD7E8F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767B-7181-42DC-84A6-2E862F99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4942-2673-446B-B607-ED20CE16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2B6F-4842-4C9E-A3C1-33376315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C88-C7C1-480F-848E-F3012396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3C5-73A4-412A-92BA-5D7EE78D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7016-6EE6-4F4D-B75E-71D0A144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FC6-B831-4030-B299-0373554A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80A-044B-429F-971B-E5136E51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6B7-3189-4BCB-8E54-F1C8E748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1523-6549-4835-AC91-68644555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C3AD-E2D0-417D-9B28-BFA68072B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BEB6-43FF-4E0C-AA1F-70354A123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762120" y="1523880"/>
          <a:ext cx="777528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77528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906480" y="175248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886200" y="15238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394240" y="1523880"/>
            <a:ext cx="132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848280" y="17524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Box 36"/>
          <p:cNvSpPr/>
          <p:nvPr/>
        </p:nvSpPr>
        <p:spPr>
          <a:xfrm>
            <a:off x="2438280" y="1447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thing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1927080" y="3168720"/>
            <a:ext cx="67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ability to guide or direct oth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1911240" y="3168720"/>
            <a:ext cx="39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Leadership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1066680" y="316872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method of stitching two pieces of fabric tog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907640" y="3168720"/>
            <a:ext cx="31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sea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1906560" y="3168720"/>
            <a:ext cx="695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amount of extra frabric add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allow for a seam.  This is the a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tween the cut edge and the se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itc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918440" y="3168720"/>
            <a:ext cx="51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seam allowa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924920" y="3168720"/>
            <a:ext cx="64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general term which describ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othing/garme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1908000" y="316872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ppare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1925640" y="3168720"/>
            <a:ext cx="665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eam that runs along the ins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g of pants, from the crotch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1911240" y="3168720"/>
            <a:ext cx="38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inseam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33520" y="3124080"/>
            <a:ext cx="88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udents Taking Action with Recogn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1988640" y="3168720"/>
            <a:ext cx="647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stitching made up of sing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ward stitches.  Most sew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chines use this as a standa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Clothing Desig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915920" y="3168720"/>
            <a:ext cx="46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straight stitch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924560" y="31687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roup provides nine essenti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trie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1914840" y="3168720"/>
            <a:ext cx="46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ilk group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4"/>
          <p:cNvSpPr/>
          <p:nvPr/>
        </p:nvSpPr>
        <p:spPr>
          <a:xfrm>
            <a:off x="2027160" y="3168720"/>
            <a:ext cx="6576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tamin B is provided by this f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oup and helps to reduce the r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 heart disease and some canc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1915920" y="3168720"/>
            <a:ext cx="508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Grains Group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1968840" y="3168720"/>
            <a:ext cx="65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eat and beans group prov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mportant nutri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1907640" y="316872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prote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956960" y="3168720"/>
            <a:ext cx="712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ods in this group provide import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trients such as potassium, folate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t. A, C and E also fib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1895400" y="316872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Vegetable Food Group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906560" y="3168720"/>
            <a:ext cx="55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FCCLA Star Even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1994040" y="3168720"/>
            <a:ext cx="681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group provides Vit. C, folate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tassium and fiber and may redu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sk of heart disea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Nutr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4"/>
          <p:cNvSpPr/>
          <p:nvPr/>
        </p:nvSpPr>
        <p:spPr>
          <a:xfrm>
            <a:off x="1914480" y="3168720"/>
            <a:ext cx="454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fruit group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924920" y="3168720"/>
            <a:ext cx="666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thing that is owed or that 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bound to pay to or perform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1904760" y="3168720"/>
            <a:ext cx="27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Deb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Fia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918080" y="3168720"/>
            <a:ext cx="52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oney that you spen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1908720" y="3168720"/>
            <a:ext cx="35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expens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1066680" y="3168720"/>
            <a:ext cx="82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statement of ones status with reg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money or weal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1980720" y="3168720"/>
            <a:ext cx="58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Financial Statem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1927080" y="3168720"/>
            <a:ext cx="672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monetary payment received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ods or services or from sour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rents or investm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908000" y="316872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inco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923840" y="3168720"/>
            <a:ext cx="6220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promote personal growth 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dership developmen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mily and Consumer Scienc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du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1928880" y="3168720"/>
            <a:ext cx="70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itemized allotment of funds, time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tc. for a given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Financial Plan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1910880" y="3168720"/>
            <a:ext cx="38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Budge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1946880" y="3168720"/>
            <a:ext cx="568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rovision of the mater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cessary to support lif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909440" y="3168720"/>
            <a:ext cx="34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nutri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4"/>
          <p:cNvSpPr/>
          <p:nvPr/>
        </p:nvSpPr>
        <p:spPr>
          <a:xfrm>
            <a:off x="1924920" y="3168720"/>
            <a:ext cx="65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was considered the seat of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se of tas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1911240" y="3168720"/>
            <a:ext cx="36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palat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1908360" y="3168720"/>
            <a:ext cx="681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s directly with the prepar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food for service in vario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tablishme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4"/>
          <p:cNvSpPr/>
          <p:nvPr/>
        </p:nvSpPr>
        <p:spPr>
          <a:xfrm>
            <a:off x="1906920" y="3168720"/>
            <a:ext cx="300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che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1949400" y="316872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room used for cooking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od prepar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1909800" y="3168720"/>
            <a:ext cx="35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kitch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1901160" y="3168720"/>
            <a:ext cx="472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FCCLA  Motto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"/>
          <p:cNvSpPr/>
          <p:nvPr/>
        </p:nvSpPr>
        <p:spPr>
          <a:xfrm>
            <a:off x="1929960" y="3168720"/>
            <a:ext cx="724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tudy concerned with all technic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pects of foo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Culinary A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1909080" y="3168720"/>
            <a:ext cx="35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Nutri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32280" y="2438280"/>
            <a:ext cx="85352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omote personal growth and leadership development thr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mily and consumer sciences educatio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ing on the multiple roles of family member, wage ear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community leader, members develop skills for life throug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acter development; creative and critical thinking; inter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s; practical knowledge; and vocational preparation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520280" y="2766960"/>
            <a:ext cx="636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FCCLA mott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1921320" y="3168720"/>
            <a:ext cx="601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advantage or something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eive for being a memb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1918440" y="3168720"/>
            <a:ext cx="55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Benefits of FCCL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1929240" y="3168720"/>
            <a:ext cx="75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mbership Campaign tool for FCC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FCCL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913400" y="3168720"/>
            <a:ext cx="43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Be Part of It!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DeBates, Debra</cp:lastModifiedBy>
  <dcterms:modified xsi:type="dcterms:W3CDTF">2009-09-14T21:18:13Z</dcterms:modified>
  <cp:revision>31</cp:revision>
  <dc:subject/>
  <dc:title>Jeopardy</dc:title>
</cp:coreProperties>
</file>